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98440" y="8634240"/>
            <a:ext cx="1500120" cy="48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767880" y="220680"/>
            <a:ext cx="5550120" cy="41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Click to move the slide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56800" y="4500360"/>
            <a:ext cx="5372280" cy="41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157ad"/>
                </a:solidFill>
                <a:latin typeface="GE Inspira"/>
              </a:rPr>
              <a:t>Click to edit the notes format</a:t>
            </a:r>
            <a:endParaRPr b="0" lang="en-US" sz="1200" spc="-1" strike="noStrike">
              <a:solidFill>
                <a:srgbClr val="4157ad"/>
              </a:solidFill>
              <a:latin typeface="GE Inspira"/>
            </a:endParaRPr>
          </a:p>
        </p:txBody>
      </p:sp>
      <p:sp>
        <p:nvSpPr>
          <p:cNvPr id="86" name=""/>
          <p:cNvSpPr/>
          <p:nvPr/>
        </p:nvSpPr>
        <p:spPr>
          <a:xfrm>
            <a:off x="2739960" y="8702640"/>
            <a:ext cx="3770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ts val="1049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3F0D35C-E776-4A73-9868-0AC1F04EC28C}" type="slidenum">
              <a:rPr b="0" lang="en-US" sz="900" spc="-1" strike="noStrike">
                <a:solidFill>
                  <a:srgbClr val="1e4191"/>
                </a:solidFill>
                <a:latin typeface="GE Inspira"/>
              </a:rPr>
              <a:t>&lt;number&gt;</a:t>
            </a:fld>
            <a:r>
              <a:rPr b="0" lang="en-US" sz="900" spc="-1" strike="noStrike">
                <a:solidFill>
                  <a:srgbClr val="1e4191"/>
                </a:solidFill>
                <a:latin typeface="GE Inspira"/>
              </a:rPr>
              <a:t> /</a:t>
            </a:r>
            <a:endParaRPr b="0" lang="en-US" sz="900" spc="-1" strike="noStrike">
              <a:solidFill>
                <a:srgbClr val="1e4191"/>
              </a:solidFill>
              <a:latin typeface="GE Inspira"/>
            </a:endParaRPr>
          </a:p>
          <a:p>
            <a:pPr algn="r">
              <a:lnSpc>
                <a:spcPts val="1049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900" spc="-1" strike="noStrike">
                <a:solidFill>
                  <a:srgbClr val="1e4191"/>
                </a:solidFill>
                <a:latin typeface="GE Inspira"/>
              </a:rPr>
              <a:t>GE </a:t>
            </a:r>
            <a:r>
              <a:rPr b="0" lang="en-US" sz="900" spc="-1" strike="noStrike">
                <a:solidFill>
                  <a:srgbClr val="1e4191"/>
                </a:solidFill>
                <a:latin typeface="GE Inspira"/>
              </a:rPr>
              <a:t>&lt;footer&gt;</a:t>
            </a:r>
            <a:r>
              <a:rPr b="0" lang="en-US" sz="900" spc="-1" strike="noStrike">
                <a:solidFill>
                  <a:srgbClr val="1e4191"/>
                </a:solidFill>
                <a:latin typeface="GE Inspira"/>
              </a:rPr>
              <a:t> / </a:t>
            </a:r>
            <a:endParaRPr b="0" lang="en-US" sz="900" spc="-1" strike="noStrike">
              <a:solidFill>
                <a:srgbClr val="1e4191"/>
              </a:solidFill>
              <a:latin typeface="GE Inspira"/>
            </a:endParaRPr>
          </a:p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900" spc="-1" strike="noStrike">
                <a:solidFill>
                  <a:srgbClr val="1e4191"/>
                </a:solidFill>
                <a:latin typeface="GE Inspira"/>
              </a:rPr>
              <a:t>&lt;date/time&gt;</a:t>
            </a:r>
            <a:endParaRPr b="0" lang="en-US" sz="9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768240" y="220680"/>
            <a:ext cx="5550120" cy="41623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856800" y="4500360"/>
            <a:ext cx="5372280" cy="41590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157ad"/>
                </a:solidFill>
                <a:latin typeface="GE Inspira"/>
              </a:rPr>
              <a:t>Do not want to store LOINC, SNOMED code directly by design. We link to external coded terminology.</a:t>
            </a:r>
            <a:endParaRPr b="0" lang="en-US" sz="1200" spc="-1" strike="noStrike">
              <a:solidFill>
                <a:srgbClr val="4157ad"/>
              </a:solidFill>
              <a:latin typeface="GE Inspir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157ad"/>
                </a:solidFill>
                <a:latin typeface="GE Inspira"/>
              </a:rPr>
              <a:t>1. Impossible to correct errors made in standard terminology, I.e. SNOMED, unless change database. If use mapping, then can just change the mapping to correct the error.</a:t>
            </a:r>
            <a:endParaRPr b="0" lang="en-US" sz="1200" spc="-1" strike="noStrike">
              <a:solidFill>
                <a:srgbClr val="4157ad"/>
              </a:solidFill>
              <a:latin typeface="GE Inspir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157ad"/>
                </a:solidFill>
                <a:latin typeface="GE Inspira"/>
              </a:rPr>
              <a:t>2. Standard terminology makes mistakes.</a:t>
            </a:r>
            <a:endParaRPr b="0" lang="en-US" sz="1200" spc="-1" strike="noStrike">
              <a:solidFill>
                <a:srgbClr val="4157ad"/>
              </a:solidFill>
              <a:latin typeface="GE Inspir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8396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4160" y="2593800"/>
            <a:ext cx="8396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6520" y="167796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4160" y="259380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6520" y="259380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270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3120" y="1677960"/>
            <a:ext cx="270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720" y="1677960"/>
            <a:ext cx="270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4160" y="2593800"/>
            <a:ext cx="270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3120" y="2593800"/>
            <a:ext cx="270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720" y="2593800"/>
            <a:ext cx="270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4160" y="1677960"/>
            <a:ext cx="8396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8396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4097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6520" y="1677960"/>
            <a:ext cx="4097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4520" y="263520"/>
            <a:ext cx="840096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6520" y="1677960"/>
            <a:ext cx="4097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4160" y="259380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4160" y="1677960"/>
            <a:ext cx="8396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4097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6520" y="167796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6520" y="259380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6520" y="167796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4160" y="2593800"/>
            <a:ext cx="8396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8396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4160" y="2593800"/>
            <a:ext cx="8396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6520" y="167796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4160" y="259380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6520" y="259380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270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3120" y="1677960"/>
            <a:ext cx="270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720" y="1677960"/>
            <a:ext cx="270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4160" y="2593800"/>
            <a:ext cx="270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3120" y="2593800"/>
            <a:ext cx="270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720" y="2593800"/>
            <a:ext cx="270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8396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4097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6520" y="1677960"/>
            <a:ext cx="4097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4520" y="263520"/>
            <a:ext cx="840096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6520" y="1677960"/>
            <a:ext cx="4097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4160" y="259380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4097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6520" y="167796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6520" y="259380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6520" y="167796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4160" y="2593800"/>
            <a:ext cx="8396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Click to edit the title text format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"/>
              </a:rPr>
              <a:t>Click to edit the outline text format</a:t>
            </a:r>
            <a:endParaRPr b="0" lang="en-US" sz="3200" spc="-1" strike="noStrike">
              <a:solidFill>
                <a:srgbClr val="1e4191"/>
              </a:solidFill>
              <a:latin typeface="GE Inspira"/>
            </a:endParaRPr>
          </a:p>
          <a:p>
            <a:pPr lvl="1" marL="313920" indent="-31248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"/>
              </a:rPr>
              <a:t>Second Outline Level</a:t>
            </a:r>
            <a:endParaRPr b="0" lang="en-US" sz="3200" spc="-1" strike="noStrike">
              <a:solidFill>
                <a:srgbClr val="1e4191"/>
              </a:solidFill>
              <a:latin typeface="GE Inspira"/>
            </a:endParaRPr>
          </a:p>
          <a:p>
            <a:pPr lvl="2" marL="684720" indent="-26532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"/>
              </a:rPr>
              <a:t>Third Outline Level</a:t>
            </a:r>
            <a:endParaRPr b="0" lang="en-US" sz="3200" spc="-1" strike="noStrike">
              <a:solidFill>
                <a:srgbClr val="1e4191"/>
              </a:solidFill>
              <a:latin typeface="GE Inspira"/>
            </a:endParaRPr>
          </a:p>
          <a:p>
            <a:pPr lvl="3" marL="1054440" indent="-26424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"/>
              </a:rPr>
              <a:t>Fourth Outline Level</a:t>
            </a:r>
            <a:endParaRPr b="0" lang="en-US" sz="3200" spc="-1" strike="noStrike">
              <a:solidFill>
                <a:srgbClr val="1e4191"/>
              </a:solidFill>
              <a:latin typeface="GE Inspira"/>
            </a:endParaRPr>
          </a:p>
          <a:p>
            <a:pPr lvl="4" marL="1422360" indent="-26280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"/>
              </a:rPr>
              <a:t>Fifth Outline Level</a:t>
            </a:r>
            <a:endParaRPr b="0" lang="en-US" sz="3200" spc="-1" strike="noStrike">
              <a:solidFill>
                <a:srgbClr val="1e4191"/>
              </a:solidFill>
              <a:latin typeface="GE Inspira"/>
            </a:endParaRPr>
          </a:p>
          <a:p>
            <a:pPr lvl="5" marL="1422360" indent="-26280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"/>
              </a:rPr>
              <a:t>Sixth Outline Level</a:t>
            </a:r>
            <a:endParaRPr b="0" lang="en-US" sz="3200" spc="-1" strike="noStrike">
              <a:solidFill>
                <a:srgbClr val="1e4191"/>
              </a:solidFill>
              <a:latin typeface="GE Inspira"/>
            </a:endParaRPr>
          </a:p>
          <a:p>
            <a:pPr lvl="6" marL="1422360" indent="-26280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"/>
              </a:rPr>
              <a:t>Seventh Outline Level</a:t>
            </a:r>
            <a:endParaRPr b="0" lang="en-US" sz="32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" name=""/>
          <p:cNvSpPr/>
          <p:nvPr/>
        </p:nvSpPr>
        <p:spPr>
          <a:xfrm>
            <a:off x="6442200" y="6229440"/>
            <a:ext cx="245556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0EB3-C268-4FE4-BB90-1BAE0929C976}" type="slidenum">
              <a:rPr b="0" lang="en-US" sz="900" spc="-1" strike="noStrike">
                <a:solidFill>
                  <a:srgbClr val="1e4191"/>
                </a:solidFill>
                <a:latin typeface="GE Inspira"/>
              </a:rPr>
              <a:t>&lt;number&gt;</a:t>
            </a:fld>
            <a:r>
              <a:rPr b="0" lang="en-US" sz="900" spc="-1" strike="noStrike">
                <a:solidFill>
                  <a:srgbClr val="1e4191"/>
                </a:solidFill>
                <a:latin typeface="GE Inspira"/>
              </a:rPr>
              <a:t> /</a:t>
            </a:r>
            <a:endParaRPr b="0" lang="en-US" sz="900" spc="-1" strike="noStrike">
              <a:solidFill>
                <a:srgbClr val="1e4191"/>
              </a:solidFill>
              <a:latin typeface="GE Inspir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e4191"/>
                </a:solidFill>
                <a:latin typeface="GE Inspira"/>
              </a:rPr>
              <a:t>ECIS </a:t>
            </a:r>
            <a:r>
              <a:rPr b="0" lang="en-US" sz="900" spc="-1" strike="noStrike">
                <a:solidFill>
                  <a:srgbClr val="1e4191"/>
                </a:solidFill>
                <a:latin typeface="GE Inspira"/>
              </a:rPr>
              <a:t>&lt;footer&gt;</a:t>
            </a:r>
            <a:r>
              <a:rPr b="0" lang="en-US" sz="900" spc="-1" strike="noStrike">
                <a:solidFill>
                  <a:srgbClr val="1e4191"/>
                </a:solidFill>
                <a:latin typeface="GE Inspira"/>
              </a:rPr>
              <a:t> /</a:t>
            </a:r>
            <a:endParaRPr b="0" lang="en-US" sz="900" spc="-1" strike="noStrike">
              <a:solidFill>
                <a:srgbClr val="1e4191"/>
              </a:solidFill>
              <a:latin typeface="GE Inspir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E522-E223-4F0A-ADD3-6292ADC67943}" type="datetime">
              <a:rPr b="0" lang="en-US" sz="900" spc="-1" strike="noStrike">
                <a:solidFill>
                  <a:srgbClr val="1e4191"/>
                </a:solidFill>
                <a:latin typeface="GE Inspira"/>
              </a:rPr>
              <a:t>07/30/26</a:t>
            </a:fld>
            <a:endParaRPr b="0" lang="en-US" sz="900" spc="-1" strike="noStrike">
              <a:solidFill>
                <a:srgbClr val="1e4191"/>
              </a:solidFill>
              <a:latin typeface="GE Inspira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477720" y="6164280"/>
            <a:ext cx="533520" cy="523800"/>
          </a:xfrm>
          <a:prstGeom prst="rect">
            <a:avLst/>
          </a:prstGeom>
          <a:ln w="0">
            <a:noFill/>
          </a:ln>
        </p:spPr>
      </p:pic>
      <p:pic>
        <p:nvPicPr>
          <p:cNvPr id="4" name="HLTH_H_BP" descr=""/>
          <p:cNvPicPr/>
          <p:nvPr/>
        </p:nvPicPr>
        <p:blipFill>
          <a:blip r:embed="rId3"/>
          <a:stretch/>
        </p:blipFill>
        <p:spPr>
          <a:xfrm>
            <a:off x="1106640" y="6116760"/>
            <a:ext cx="265716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0" r="980" b="0"/>
          <a:stretch/>
        </p:blipFill>
        <p:spPr>
          <a:xfrm>
            <a:off x="3352680" y="2414520"/>
            <a:ext cx="5791320" cy="4443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e4191"/>
                </a:solidFill>
                <a:latin typeface="GE Inspira"/>
              </a:rPr>
              <a:t>Click to edit the title text format</a:t>
            </a: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77720" y="6164280"/>
            <a:ext cx="533520" cy="523800"/>
          </a:xfrm>
          <a:prstGeom prst="rect">
            <a:avLst/>
          </a:prstGeom>
          <a:ln w="0">
            <a:noFill/>
          </a:ln>
        </p:spPr>
      </p:pic>
      <p:pic>
        <p:nvPicPr>
          <p:cNvPr id="44" name="HLTH_H_BP" descr=""/>
          <p:cNvPicPr/>
          <p:nvPr/>
        </p:nvPicPr>
        <p:blipFill>
          <a:blip r:embed="rId4"/>
          <a:stretch/>
        </p:blipFill>
        <p:spPr>
          <a:xfrm>
            <a:off x="1049400" y="6124680"/>
            <a:ext cx="2657520" cy="609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8b9f5"/>
                </a:solidFill>
                <a:latin typeface="GE Inspira"/>
              </a:rPr>
              <a:t>Click to edit the outline text format</a:t>
            </a: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  <a:p>
            <a:pPr lvl="1" marL="144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Second Outline Level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2" marL="344520" indent="111240" algn="ctr">
              <a:lnSpc>
                <a:spcPct val="90000"/>
              </a:lnSpc>
              <a:spcBef>
                <a:spcPts val="499"/>
              </a:spcBef>
              <a:buClr>
                <a:srgbClr val="004880"/>
              </a:buClr>
              <a:buFont typeface="GE Inspir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Third Outline Level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3" marL="689040" indent="169920" algn="ctr">
              <a:lnSpc>
                <a:spcPct val="90000"/>
              </a:lnSpc>
              <a:spcBef>
                <a:spcPts val="249"/>
              </a:spcBef>
              <a:buClr>
                <a:srgbClr val="004880"/>
              </a:buClr>
              <a:buFont typeface="GE Inspir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Fourth Outline Level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4" marL="1030320" indent="230040" algn="ctr">
              <a:lnSpc>
                <a:spcPct val="90000"/>
              </a:lnSpc>
              <a:buClr>
                <a:srgbClr val="004880"/>
              </a:buClr>
              <a:buFont typeface="GE Inspir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Fifth Outline Level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5" marL="1030320" indent="230040">
              <a:spcBef>
                <a:spcPts val="499"/>
              </a:spcBef>
              <a:buClr>
                <a:srgbClr val="1e4191"/>
              </a:buClr>
              <a:buFont typeface="GE Inspi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Sixth Outline Level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6" marL="1030320" indent="230040">
              <a:spcBef>
                <a:spcPts val="499"/>
              </a:spcBef>
              <a:buClr>
                <a:srgbClr val="1e4191"/>
              </a:buClr>
              <a:buFont typeface="GE Inspi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Seventh Outline Level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117612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e4191"/>
                </a:solidFill>
                <a:latin typeface="GE Inspira"/>
              </a:rPr>
              <a:t>Clinical Element Models</a:t>
            </a:r>
            <a:endParaRPr b="0" lang="en-US" sz="48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88" name=""/>
          <p:cNvSpPr/>
          <p:nvPr/>
        </p:nvSpPr>
        <p:spPr>
          <a:xfrm>
            <a:off x="829440" y="2533680"/>
            <a:ext cx="7486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W3C Semantic Web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Healthcare and Life Sciences Interest Group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November 8, 2007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Tom Oniki, PhD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Sr. Medical Informaticist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Intermountain Healthcare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Salt Lake City, UT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Value Choice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51160" y="1726920"/>
            <a:ext cx="350028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Data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- Value conveyed as an HL7 version 3 data type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Items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- Value conveyed by multiple Clinical Elements collectively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177920"/>
            <a:ext cx="4883040" cy="43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88920" y="1531800"/>
            <a:ext cx="2976480" cy="52236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Clinical Element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10" name=""/>
          <p:cNvSpPr/>
          <p:nvPr/>
        </p:nvSpPr>
        <p:spPr>
          <a:xfrm>
            <a:off x="1871640" y="222552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type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11" name=""/>
          <p:cNvSpPr/>
          <p:nvPr/>
        </p:nvSpPr>
        <p:spPr>
          <a:xfrm>
            <a:off x="1871640" y="330984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12" name=""/>
          <p:cNvSpPr/>
          <p:nvPr/>
        </p:nvSpPr>
        <p:spPr>
          <a:xfrm>
            <a:off x="3316320" y="2149560"/>
            <a:ext cx="489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olicBloodPressureMeas (concept that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“our model for capturing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olic blood pressure measurements”)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13" name=""/>
          <p:cNvSpPr/>
          <p:nvPr/>
        </p:nvSpPr>
        <p:spPr>
          <a:xfrm>
            <a:off x="3317040" y="3243240"/>
            <a:ext cx="519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olicBloodPressure (“real world” concept;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mapped to SNOMED code)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14" name=""/>
          <p:cNvSpPr/>
          <p:nvPr/>
        </p:nvSpPr>
        <p:spPr>
          <a:xfrm>
            <a:off x="1871640" y="429732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15" name=""/>
          <p:cNvSpPr/>
          <p:nvPr/>
        </p:nvSpPr>
        <p:spPr>
          <a:xfrm>
            <a:off x="3314520" y="435780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 mm Hg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16" name=""/>
          <p:cNvSpPr/>
          <p:nvPr/>
        </p:nvSpPr>
        <p:spPr>
          <a:xfrm>
            <a:off x="1716120" y="4203720"/>
            <a:ext cx="5629320" cy="68436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17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A Simple Observation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88920" y="1531800"/>
            <a:ext cx="4044960" cy="52236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SystolicBloodPressureMea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19" name=""/>
          <p:cNvSpPr/>
          <p:nvPr/>
        </p:nvSpPr>
        <p:spPr>
          <a:xfrm>
            <a:off x="1871640" y="2214720"/>
            <a:ext cx="1220760" cy="49500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20" name=""/>
          <p:cNvSpPr/>
          <p:nvPr/>
        </p:nvSpPr>
        <p:spPr>
          <a:xfrm>
            <a:off x="3317040" y="2147760"/>
            <a:ext cx="519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olicBloodPressure (“real world” concept;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mapped to SNOMED code)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21" name=""/>
          <p:cNvSpPr/>
          <p:nvPr/>
        </p:nvSpPr>
        <p:spPr>
          <a:xfrm>
            <a:off x="1871640" y="301140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22" name=""/>
          <p:cNvSpPr/>
          <p:nvPr/>
        </p:nvSpPr>
        <p:spPr>
          <a:xfrm>
            <a:off x="3314520" y="307188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 mm Hg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23" name=""/>
          <p:cNvSpPr/>
          <p:nvPr/>
        </p:nvSpPr>
        <p:spPr>
          <a:xfrm>
            <a:off x="1716120" y="2917800"/>
            <a:ext cx="5629320" cy="68436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24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A Simple Observation (shorthand)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88920" y="1123920"/>
            <a:ext cx="2976480" cy="43020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BloodPressurePanel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26" name=""/>
          <p:cNvSpPr/>
          <p:nvPr/>
        </p:nvSpPr>
        <p:spPr>
          <a:xfrm>
            <a:off x="1871640" y="1649520"/>
            <a:ext cx="1220760" cy="3459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27" name=""/>
          <p:cNvSpPr/>
          <p:nvPr/>
        </p:nvSpPr>
        <p:spPr>
          <a:xfrm>
            <a:off x="3323520" y="163368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dPressure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28" name=""/>
          <p:cNvSpPr/>
          <p:nvPr/>
        </p:nvSpPr>
        <p:spPr>
          <a:xfrm>
            <a:off x="1852560" y="2098800"/>
            <a:ext cx="1220760" cy="34740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item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29" name=""/>
          <p:cNvSpPr/>
          <p:nvPr/>
        </p:nvSpPr>
        <p:spPr>
          <a:xfrm>
            <a:off x="1322280" y="2041560"/>
            <a:ext cx="7253280" cy="3670200"/>
          </a:xfrm>
          <a:prstGeom prst="roundRect">
            <a:avLst>
              <a:gd name="adj" fmla="val 2084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30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A panel containing two observations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31" name=""/>
          <p:cNvSpPr/>
          <p:nvPr/>
        </p:nvSpPr>
        <p:spPr>
          <a:xfrm>
            <a:off x="2370240" y="2503440"/>
            <a:ext cx="3620880" cy="40968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SystolicBloodPressureMea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32" name=""/>
          <p:cNvSpPr/>
          <p:nvPr/>
        </p:nvSpPr>
        <p:spPr>
          <a:xfrm>
            <a:off x="3252960" y="3014640"/>
            <a:ext cx="1220760" cy="3459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33" name=""/>
          <p:cNvSpPr/>
          <p:nvPr/>
        </p:nvSpPr>
        <p:spPr>
          <a:xfrm>
            <a:off x="4703760" y="2986200"/>
            <a:ext cx="27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olicBloodPressure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34" name=""/>
          <p:cNvSpPr/>
          <p:nvPr/>
        </p:nvSpPr>
        <p:spPr>
          <a:xfrm>
            <a:off x="3252960" y="3487680"/>
            <a:ext cx="1220760" cy="3747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35" name=""/>
          <p:cNvSpPr/>
          <p:nvPr/>
        </p:nvSpPr>
        <p:spPr>
          <a:xfrm>
            <a:off x="4695840" y="346248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 mmHg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36" name=""/>
          <p:cNvSpPr/>
          <p:nvPr/>
        </p:nvSpPr>
        <p:spPr>
          <a:xfrm>
            <a:off x="3097080" y="3432240"/>
            <a:ext cx="3175200" cy="48888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37" name=""/>
          <p:cNvSpPr/>
          <p:nvPr/>
        </p:nvSpPr>
        <p:spPr>
          <a:xfrm>
            <a:off x="2370240" y="4037040"/>
            <a:ext cx="3620880" cy="40968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iastolicBloodPressureMea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38" name=""/>
          <p:cNvSpPr/>
          <p:nvPr/>
        </p:nvSpPr>
        <p:spPr>
          <a:xfrm>
            <a:off x="3252960" y="4548240"/>
            <a:ext cx="1220760" cy="3459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39" name=""/>
          <p:cNvSpPr/>
          <p:nvPr/>
        </p:nvSpPr>
        <p:spPr>
          <a:xfrm>
            <a:off x="4704120" y="4519440"/>
            <a:ext cx="281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stolicBloodPressure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40" name=""/>
          <p:cNvSpPr/>
          <p:nvPr/>
        </p:nvSpPr>
        <p:spPr>
          <a:xfrm>
            <a:off x="3252960" y="5021280"/>
            <a:ext cx="1220760" cy="3747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41" name=""/>
          <p:cNvSpPr/>
          <p:nvPr/>
        </p:nvSpPr>
        <p:spPr>
          <a:xfrm>
            <a:off x="4695840" y="499572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 mmHg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42" name=""/>
          <p:cNvSpPr/>
          <p:nvPr/>
        </p:nvSpPr>
        <p:spPr>
          <a:xfrm>
            <a:off x="3097080" y="4965840"/>
            <a:ext cx="3175200" cy="48888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Qualifiers of the Value Choice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51160" y="1726920"/>
            <a:ext cx="350028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Qualifiers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– 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CEM’s which give more information about the Value Choice. 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  <p:pic>
        <p:nvPicPr>
          <p:cNvPr id="145" name="quals" descr=""/>
          <p:cNvPicPr/>
          <p:nvPr/>
        </p:nvPicPr>
        <p:blipFill>
          <a:blip r:embed="rId1"/>
          <a:stretch/>
        </p:blipFill>
        <p:spPr>
          <a:xfrm>
            <a:off x="487440" y="1101600"/>
            <a:ext cx="4182840" cy="2765520"/>
          </a:xfrm>
          <a:prstGeom prst="rect">
            <a:avLst/>
          </a:prstGeom>
          <a:ln w="0">
            <a:noFill/>
          </a:ln>
        </p:spPr>
      </p:pic>
      <p:pic>
        <p:nvPicPr>
          <p:cNvPr id="146" name="qual2" descr=""/>
          <p:cNvPicPr/>
          <p:nvPr/>
        </p:nvPicPr>
        <p:blipFill>
          <a:blip r:embed="rId2"/>
          <a:stretch/>
        </p:blipFill>
        <p:spPr>
          <a:xfrm>
            <a:off x="581040" y="3924360"/>
            <a:ext cx="337176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88920" y="969840"/>
            <a:ext cx="3592440" cy="52236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SystolicBloodPressureMea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48" name=""/>
          <p:cNvSpPr/>
          <p:nvPr/>
        </p:nvSpPr>
        <p:spPr>
          <a:xfrm>
            <a:off x="1871640" y="155736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49" name=""/>
          <p:cNvSpPr/>
          <p:nvPr/>
        </p:nvSpPr>
        <p:spPr>
          <a:xfrm>
            <a:off x="3322800" y="1585800"/>
            <a:ext cx="27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olicBloodPressure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50" name=""/>
          <p:cNvSpPr/>
          <p:nvPr/>
        </p:nvSpPr>
        <p:spPr>
          <a:xfrm>
            <a:off x="1871640" y="219240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51" name=""/>
          <p:cNvSpPr/>
          <p:nvPr/>
        </p:nvSpPr>
        <p:spPr>
          <a:xfrm>
            <a:off x="3314520" y="225252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 mmHg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52" name=""/>
          <p:cNvSpPr/>
          <p:nvPr/>
        </p:nvSpPr>
        <p:spPr>
          <a:xfrm>
            <a:off x="1716120" y="2098800"/>
            <a:ext cx="5629320" cy="68400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53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The use of Qualifiers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88920" y="969840"/>
            <a:ext cx="3592440" cy="52236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SystolicBloodPressureMea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55" name=""/>
          <p:cNvSpPr/>
          <p:nvPr/>
        </p:nvSpPr>
        <p:spPr>
          <a:xfrm>
            <a:off x="1871640" y="155736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56" name=""/>
          <p:cNvSpPr/>
          <p:nvPr/>
        </p:nvSpPr>
        <p:spPr>
          <a:xfrm>
            <a:off x="3322800" y="1585800"/>
            <a:ext cx="27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olicBloodPressure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57" name=""/>
          <p:cNvSpPr/>
          <p:nvPr/>
        </p:nvSpPr>
        <p:spPr>
          <a:xfrm>
            <a:off x="1871640" y="219240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58" name=""/>
          <p:cNvSpPr/>
          <p:nvPr/>
        </p:nvSpPr>
        <p:spPr>
          <a:xfrm>
            <a:off x="3314520" y="225252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 mmHg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59" name=""/>
          <p:cNvSpPr/>
          <p:nvPr/>
        </p:nvSpPr>
        <p:spPr>
          <a:xfrm>
            <a:off x="1716120" y="2098800"/>
            <a:ext cx="5629320" cy="68400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60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The use of Qualifiers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61" name=""/>
          <p:cNvSpPr/>
          <p:nvPr/>
        </p:nvSpPr>
        <p:spPr>
          <a:xfrm>
            <a:off x="1871640" y="284328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qual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62" name=""/>
          <p:cNvSpPr/>
          <p:nvPr/>
        </p:nvSpPr>
        <p:spPr>
          <a:xfrm>
            <a:off x="3271680" y="4649760"/>
            <a:ext cx="122112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63" name=""/>
          <p:cNvSpPr/>
          <p:nvPr/>
        </p:nvSpPr>
        <p:spPr>
          <a:xfrm>
            <a:off x="4717080" y="471024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ting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64" name=""/>
          <p:cNvSpPr/>
          <p:nvPr/>
        </p:nvSpPr>
        <p:spPr>
          <a:xfrm>
            <a:off x="3116160" y="4556160"/>
            <a:ext cx="5629320" cy="68400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65" name=""/>
          <p:cNvSpPr/>
          <p:nvPr/>
        </p:nvSpPr>
        <p:spPr>
          <a:xfrm>
            <a:off x="3271680" y="3995640"/>
            <a:ext cx="122112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66" name=""/>
          <p:cNvSpPr/>
          <p:nvPr/>
        </p:nvSpPr>
        <p:spPr>
          <a:xfrm>
            <a:off x="4725000" y="402444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Position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67" name=""/>
          <p:cNvSpPr/>
          <p:nvPr/>
        </p:nvSpPr>
        <p:spPr>
          <a:xfrm>
            <a:off x="2513160" y="3398760"/>
            <a:ext cx="3592440" cy="52236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BodyPosition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88920" y="969840"/>
            <a:ext cx="3592440" cy="52236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SystolicBloodPressureMea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69" name=""/>
          <p:cNvSpPr/>
          <p:nvPr/>
        </p:nvSpPr>
        <p:spPr>
          <a:xfrm>
            <a:off x="1871640" y="155736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70" name=""/>
          <p:cNvSpPr/>
          <p:nvPr/>
        </p:nvSpPr>
        <p:spPr>
          <a:xfrm>
            <a:off x="3322800" y="1585800"/>
            <a:ext cx="27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olicBloodPressure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71" name=""/>
          <p:cNvSpPr/>
          <p:nvPr/>
        </p:nvSpPr>
        <p:spPr>
          <a:xfrm>
            <a:off x="1871640" y="219240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72" name=""/>
          <p:cNvSpPr/>
          <p:nvPr/>
        </p:nvSpPr>
        <p:spPr>
          <a:xfrm>
            <a:off x="3314520" y="225252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 mmHg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73" name=""/>
          <p:cNvSpPr/>
          <p:nvPr/>
        </p:nvSpPr>
        <p:spPr>
          <a:xfrm>
            <a:off x="1716120" y="2098800"/>
            <a:ext cx="5629320" cy="68400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74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The use of Qualifiers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75" name=""/>
          <p:cNvSpPr/>
          <p:nvPr/>
        </p:nvSpPr>
        <p:spPr>
          <a:xfrm>
            <a:off x="1871640" y="284328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qual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76" name=""/>
          <p:cNvSpPr/>
          <p:nvPr/>
        </p:nvSpPr>
        <p:spPr>
          <a:xfrm>
            <a:off x="3271680" y="4649760"/>
            <a:ext cx="122112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77" name=""/>
          <p:cNvSpPr/>
          <p:nvPr/>
        </p:nvSpPr>
        <p:spPr>
          <a:xfrm>
            <a:off x="4717080" y="471024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ting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78" name=""/>
          <p:cNvSpPr/>
          <p:nvPr/>
        </p:nvSpPr>
        <p:spPr>
          <a:xfrm>
            <a:off x="3116160" y="4556160"/>
            <a:ext cx="5629320" cy="68400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79" name=""/>
          <p:cNvSpPr/>
          <p:nvPr/>
        </p:nvSpPr>
        <p:spPr>
          <a:xfrm>
            <a:off x="3271680" y="3995640"/>
            <a:ext cx="122112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80" name=""/>
          <p:cNvSpPr/>
          <p:nvPr/>
        </p:nvSpPr>
        <p:spPr>
          <a:xfrm>
            <a:off x="4725000" y="402444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Position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81" name=""/>
          <p:cNvSpPr/>
          <p:nvPr/>
        </p:nvSpPr>
        <p:spPr>
          <a:xfrm>
            <a:off x="2513160" y="3398760"/>
            <a:ext cx="3592440" cy="52236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BodyPosition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82" name=""/>
          <p:cNvSpPr/>
          <p:nvPr/>
        </p:nvSpPr>
        <p:spPr>
          <a:xfrm>
            <a:off x="3244320" y="5605560"/>
            <a:ext cx="56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0000"/>
                </a:solidFill>
                <a:latin typeface="GE Inspira"/>
              </a:rPr>
              <a:t>Controlled Terminology Codes!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32240" y="2727360"/>
            <a:ext cx="0" cy="2930400"/>
          </a:xfrm>
          <a:prstGeom prst="line">
            <a:avLst/>
          </a:prstGeom>
          <a:ln w="57240">
            <a:solidFill>
              <a:srgbClr val="e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5273280" y="5219280"/>
            <a:ext cx="3240" cy="414360"/>
          </a:xfrm>
          <a:prstGeom prst="line">
            <a:avLst/>
          </a:prstGeom>
          <a:ln w="57240">
            <a:solidFill>
              <a:srgbClr val="e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85" name=""/>
          <p:cNvSpPr/>
          <p:nvPr/>
        </p:nvSpPr>
        <p:spPr>
          <a:xfrm>
            <a:off x="4579920" y="4626000"/>
            <a:ext cx="1389240" cy="538200"/>
          </a:xfrm>
          <a:prstGeom prst="ellipse">
            <a:avLst/>
          </a:prstGeom>
          <a:noFill/>
          <a:ln w="3816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86" name=""/>
          <p:cNvSpPr/>
          <p:nvPr/>
        </p:nvSpPr>
        <p:spPr>
          <a:xfrm>
            <a:off x="3774960" y="2171880"/>
            <a:ext cx="1098720" cy="537840"/>
          </a:xfrm>
          <a:prstGeom prst="ellipse">
            <a:avLst/>
          </a:prstGeom>
          <a:noFill/>
          <a:ln w="3816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e4191"/>
                </a:solidFill>
                <a:latin typeface="GE Inspira"/>
              </a:rPr>
              <a:t>Modeling Issues</a:t>
            </a:r>
            <a:endParaRPr b="0" lang="en-US" sz="48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42720" y="99540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Let’s see, I want to analyze numbness symptoms in neurological patients . . .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89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More than just groups of codes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Acknowledgements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720" y="1274760"/>
            <a:ext cx="845964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"/>
              </a:rPr>
              <a:t>Stan Huff, Joey Coyle, Craig Parker, Yan Heras, and many others</a:t>
            </a:r>
            <a:endParaRPr b="0" lang="en-US" sz="32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42720" y="99540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Let’s see, I want to analyze numbness symptoms in neurological patients . . .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91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More than just groups of codes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5080" y="2003040"/>
            <a:ext cx="8459640" cy="21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Fortunately, we store SNOMED CT codes.  I see this patient had: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2" marL="627120" indent="-227160">
              <a:lnSpc>
                <a:spcPct val="90000"/>
              </a:lnSpc>
              <a:spcBef>
                <a:spcPts val="451"/>
              </a:spcBef>
              <a:buClr>
                <a:srgbClr val="004880"/>
              </a:buClr>
              <a:buFont typeface="GE Inspira"/>
              <a:buChar char="–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Numbness (44077006)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 lvl="2" marL="627120" indent="-227160">
              <a:lnSpc>
                <a:spcPct val="90000"/>
              </a:lnSpc>
              <a:spcBef>
                <a:spcPts val="451"/>
              </a:spcBef>
              <a:buClr>
                <a:srgbClr val="004880"/>
              </a:buClr>
              <a:buFont typeface="GE Inspira"/>
              <a:buChar char="–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Right (24028007)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 lvl="2" marL="627120" indent="-227160">
              <a:lnSpc>
                <a:spcPct val="90000"/>
              </a:lnSpc>
              <a:spcBef>
                <a:spcPts val="451"/>
              </a:spcBef>
              <a:buClr>
                <a:srgbClr val="004880"/>
              </a:buClr>
              <a:buFont typeface="GE Inspira"/>
              <a:buChar char="–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Arm (40983000)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 lvl="2" marL="627120" indent="-227160">
              <a:lnSpc>
                <a:spcPct val="90000"/>
              </a:lnSpc>
              <a:spcBef>
                <a:spcPts val="451"/>
              </a:spcBef>
              <a:buClr>
                <a:srgbClr val="004880"/>
              </a:buClr>
              <a:buFont typeface="GE Inspira"/>
              <a:buChar char="–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Left (7771000)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 lvl="2" marL="627120" indent="-227160">
              <a:lnSpc>
                <a:spcPct val="90000"/>
              </a:lnSpc>
              <a:spcBef>
                <a:spcPts val="451"/>
              </a:spcBef>
              <a:buClr>
                <a:srgbClr val="004880"/>
              </a:buClr>
              <a:buFont typeface="GE Inspira"/>
              <a:buChar char="–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Leg (30021000) 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42720" y="99540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Let’s see, I want to analyze numbness symptoms in neurological patients . . .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94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More than just groups of codes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5080" y="2003400"/>
            <a:ext cx="84596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Fortunately, we store SNOMED CT codes.  I see this patient had: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2" marL="627120" indent="-227160">
              <a:lnSpc>
                <a:spcPct val="90000"/>
              </a:lnSpc>
              <a:spcBef>
                <a:spcPts val="451"/>
              </a:spcBef>
              <a:buClr>
                <a:srgbClr val="004880"/>
              </a:buClr>
              <a:buFont typeface="GE Inspira"/>
              <a:buChar char="–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Numbness (44077006)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 lvl="2" marL="627120" indent="-227160">
              <a:lnSpc>
                <a:spcPct val="90000"/>
              </a:lnSpc>
              <a:spcBef>
                <a:spcPts val="451"/>
              </a:spcBef>
              <a:buClr>
                <a:srgbClr val="004880"/>
              </a:buClr>
              <a:buFont typeface="GE Inspira"/>
              <a:buChar char="–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Right (24028007)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 lvl="2" marL="627120" indent="-227160">
              <a:lnSpc>
                <a:spcPct val="90000"/>
              </a:lnSpc>
              <a:spcBef>
                <a:spcPts val="451"/>
              </a:spcBef>
              <a:buClr>
                <a:srgbClr val="004880"/>
              </a:buClr>
              <a:buFont typeface="GE Inspira"/>
              <a:buChar char="–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Arm (40983000)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 lvl="2" marL="627120" indent="-227160">
              <a:lnSpc>
                <a:spcPct val="90000"/>
              </a:lnSpc>
              <a:spcBef>
                <a:spcPts val="451"/>
              </a:spcBef>
              <a:buClr>
                <a:srgbClr val="004880"/>
              </a:buClr>
              <a:buFont typeface="GE Inspira"/>
              <a:buChar char="–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Left (7771000)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 lvl="2" marL="627120" indent="-227160">
              <a:lnSpc>
                <a:spcPct val="90000"/>
              </a:lnSpc>
              <a:spcBef>
                <a:spcPts val="451"/>
              </a:spcBef>
              <a:buClr>
                <a:srgbClr val="004880"/>
              </a:buClr>
              <a:buFont typeface="GE Inspira"/>
              <a:buChar char="–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Leg (30021000) 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But does this mean: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1" marL="285840" indent="-17136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Numbness of right arm and left leg?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1" marL="285840" indent="-17136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Numbness of left arm and right leg? 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1" marL="285840" indent="-17136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Numbness of both arms and legs?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2" marL="627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88720" y="1260360"/>
            <a:ext cx="8218440" cy="42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What if </a:t>
            </a:r>
            <a:r>
              <a:rPr b="0" lang="en-US" sz="2800" spc="-1" strike="noStrike">
                <a:solidFill>
                  <a:srgbClr val="fa1a02"/>
                </a:solidFill>
                <a:latin typeface="GE Inspira"/>
              </a:rPr>
              <a:t>Dry </a:t>
            </a:r>
            <a:r>
              <a:rPr b="0" lang="en-US" sz="2800" spc="-1" strike="noStrike">
                <a:solidFill>
                  <a:srgbClr val="fd1e07"/>
                </a:solidFill>
                <a:latin typeface="GE Inspira"/>
              </a:rPr>
              <a:t>Weight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is stored/accessed as: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-339840">
              <a:lnSpc>
                <a:spcPct val="90000"/>
              </a:lnSpc>
              <a:spcBef>
                <a:spcPts val="1049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A single name/code and value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2" marL="744480" indent="-288720">
              <a:lnSpc>
                <a:spcPct val="90000"/>
              </a:lnSpc>
              <a:spcBef>
                <a:spcPts val="601"/>
              </a:spcBef>
              <a:buClr>
                <a:srgbClr val="004880"/>
              </a:buClr>
              <a:buFont typeface="GE Inspi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Dry Weight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70 kg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Different ways to model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98" name=""/>
          <p:cNvSpPr/>
          <p:nvPr/>
        </p:nvSpPr>
        <p:spPr>
          <a:xfrm>
            <a:off x="495360" y="105264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If </a:t>
            </a:r>
            <a:r>
              <a:rPr b="1" i="1" lang="en-US" sz="3600" spc="-1" strike="noStrike">
                <a:solidFill>
                  <a:srgbClr val="fa1a02"/>
                </a:solidFill>
                <a:latin typeface="GE Inspira"/>
              </a:rPr>
              <a:t>Dry </a:t>
            </a:r>
            <a:r>
              <a:rPr b="1" i="1" lang="en-US" sz="3600" spc="-1" strike="noStrike">
                <a:solidFill>
                  <a:srgbClr val="fd1e07"/>
                </a:solidFill>
                <a:latin typeface="GE Inspira"/>
              </a:rPr>
              <a:t>Weight</a:t>
            </a: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 </a:t>
            </a:r>
            <a:r>
              <a:rPr b="0" lang="en-US" sz="3600" spc="-1" strike="noStrike">
                <a:solidFill>
                  <a:srgbClr val="fd1e07"/>
                </a:solidFill>
                <a:latin typeface="GE Inspira"/>
              </a:rPr>
              <a:t>&gt; 70 kg</a:t>
            </a: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, then . . .</a:t>
            </a:r>
            <a:br>
              <a:rPr sz="4000"/>
            </a:b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88720" y="1260360"/>
            <a:ext cx="8218440" cy="42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What if </a:t>
            </a:r>
            <a:r>
              <a:rPr b="0" lang="en-US" sz="2800" spc="-1" strike="noStrike">
                <a:solidFill>
                  <a:srgbClr val="fa1a02"/>
                </a:solidFill>
                <a:latin typeface="GE Inspira"/>
              </a:rPr>
              <a:t>Dry </a:t>
            </a:r>
            <a:r>
              <a:rPr b="0" lang="en-US" sz="2800" spc="-1" strike="noStrike">
                <a:solidFill>
                  <a:srgbClr val="fd1e07"/>
                </a:solidFill>
                <a:latin typeface="GE Inspira"/>
              </a:rPr>
              <a:t>Weight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is stored/accessed as: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-339840">
              <a:lnSpc>
                <a:spcPct val="90000"/>
              </a:lnSpc>
              <a:spcBef>
                <a:spcPts val="1049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A single name/code and value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2" marL="744480" indent="-288720">
              <a:lnSpc>
                <a:spcPct val="90000"/>
              </a:lnSpc>
              <a:spcBef>
                <a:spcPts val="601"/>
              </a:spcBef>
              <a:buClr>
                <a:srgbClr val="004880"/>
              </a:buClr>
              <a:buFont typeface="GE Inspi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Dry Weight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70 kg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 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The combination of  two names/codes and values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2" marL="744480" indent="-288720">
              <a:lnSpc>
                <a:spcPct val="90000"/>
              </a:lnSpc>
              <a:spcBef>
                <a:spcPts val="601"/>
              </a:spcBef>
              <a:buClr>
                <a:srgbClr val="004880"/>
              </a:buClr>
              <a:buFont typeface="GE Inspi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a1a02"/>
                </a:solidFill>
                <a:latin typeface="GE Inspira"/>
              </a:rPr>
              <a:t>Weight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70 kg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3" marL="1146240" indent="-287280">
              <a:lnSpc>
                <a:spcPct val="90000"/>
              </a:lnSpc>
              <a:spcBef>
                <a:spcPts val="300"/>
              </a:spcBef>
              <a:buClr>
                <a:srgbClr val="004880"/>
              </a:buClr>
              <a:buFont typeface="GE Inspir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a1a02"/>
                </a:solidFill>
                <a:latin typeface="GE Inspira"/>
              </a:rPr>
              <a:t>Weight typ</a:t>
            </a: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e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“dry”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Different ways to model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01" name=""/>
          <p:cNvSpPr/>
          <p:nvPr/>
        </p:nvSpPr>
        <p:spPr>
          <a:xfrm>
            <a:off x="495360" y="105264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If </a:t>
            </a:r>
            <a:r>
              <a:rPr b="1" i="1" lang="en-US" sz="3600" spc="-1" strike="noStrike">
                <a:solidFill>
                  <a:srgbClr val="fa1a02"/>
                </a:solidFill>
                <a:latin typeface="GE Inspira"/>
              </a:rPr>
              <a:t>Dry </a:t>
            </a:r>
            <a:r>
              <a:rPr b="1" i="1" lang="en-US" sz="3600" spc="-1" strike="noStrike">
                <a:solidFill>
                  <a:srgbClr val="fd1e07"/>
                </a:solidFill>
                <a:latin typeface="GE Inspira"/>
              </a:rPr>
              <a:t>Weight</a:t>
            </a: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 </a:t>
            </a:r>
            <a:r>
              <a:rPr b="0" lang="en-US" sz="3600" spc="-1" strike="noStrike">
                <a:solidFill>
                  <a:srgbClr val="fd1e07"/>
                </a:solidFill>
                <a:latin typeface="GE Inspira"/>
              </a:rPr>
              <a:t>&gt; 70 kg</a:t>
            </a: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, then . . .</a:t>
            </a:r>
            <a:br>
              <a:rPr sz="3600"/>
            </a:b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Different ways to model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03" name=""/>
          <p:cNvSpPr/>
          <p:nvPr/>
        </p:nvSpPr>
        <p:spPr>
          <a:xfrm>
            <a:off x="495360" y="105264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If </a:t>
            </a:r>
            <a:r>
              <a:rPr b="1" i="1" lang="en-US" sz="3600" spc="-1" strike="noStrike">
                <a:solidFill>
                  <a:srgbClr val="fa1a02"/>
                </a:solidFill>
                <a:latin typeface="GE Inspira"/>
              </a:rPr>
              <a:t>Dry </a:t>
            </a:r>
            <a:r>
              <a:rPr b="1" i="1" lang="en-US" sz="3600" spc="-1" strike="noStrike">
                <a:solidFill>
                  <a:srgbClr val="fd1e07"/>
                </a:solidFill>
                <a:latin typeface="GE Inspira"/>
              </a:rPr>
              <a:t>Weight</a:t>
            </a: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 </a:t>
            </a:r>
            <a:r>
              <a:rPr b="0" lang="en-US" sz="3600" spc="-1" strike="noStrike">
                <a:solidFill>
                  <a:srgbClr val="fd1e07"/>
                </a:solidFill>
                <a:latin typeface="GE Inspira"/>
              </a:rPr>
              <a:t>&gt; 70 kg</a:t>
            </a: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, then . . .</a:t>
            </a:r>
            <a:br>
              <a:rPr sz="3600"/>
            </a:b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9080" y="1736280"/>
            <a:ext cx="8370720" cy="46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IF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(</a:t>
            </a:r>
            <a:r>
              <a:rPr b="0" lang="en-US" sz="2800" spc="-1" strike="noStrike">
                <a:solidFill>
                  <a:srgbClr val="fd1e07"/>
                </a:solidFill>
                <a:latin typeface="GE Inspira"/>
              </a:rPr>
              <a:t>Dry Weight &gt; 70 kg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OR 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(</a:t>
            </a:r>
            <a:r>
              <a:rPr b="0" lang="en-US" sz="2800" spc="-1" strike="noStrike">
                <a:solidFill>
                  <a:srgbClr val="fd1e07"/>
                </a:solidFill>
                <a:latin typeface="GE Inspira"/>
              </a:rPr>
              <a:t>Weight &gt; 70 kg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</a:t>
            </a: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AND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</a:t>
            </a:r>
            <a:r>
              <a:rPr b="0" lang="en-US" sz="2800" spc="-1" strike="noStrike">
                <a:solidFill>
                  <a:srgbClr val="fd1e07"/>
                </a:solidFill>
                <a:latin typeface="GE Inspira"/>
              </a:rPr>
              <a:t>Weight type = “dry”</a:t>
            </a: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)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THEN . . .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89080" y="1736280"/>
            <a:ext cx="8370720" cy="46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IF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(</a:t>
            </a:r>
            <a:r>
              <a:rPr b="0" lang="en-US" sz="2800" spc="-1" strike="noStrike">
                <a:solidFill>
                  <a:srgbClr val="fd1e07"/>
                </a:solidFill>
                <a:latin typeface="GE Inspira"/>
              </a:rPr>
              <a:t>Dry Weight &gt; 70 kg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OR 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(</a:t>
            </a:r>
            <a:r>
              <a:rPr b="0" lang="en-US" sz="2800" spc="-1" strike="noStrike">
                <a:solidFill>
                  <a:srgbClr val="fd1e07"/>
                </a:solidFill>
                <a:latin typeface="GE Inspira"/>
              </a:rPr>
              <a:t>Weight &gt; 70 kg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</a:t>
            </a: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AND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</a:t>
            </a:r>
            <a:r>
              <a:rPr b="0" lang="en-US" sz="2800" spc="-1" strike="noStrike">
                <a:solidFill>
                  <a:srgbClr val="fd1e07"/>
                </a:solidFill>
                <a:latin typeface="GE Inspira"/>
              </a:rPr>
              <a:t>Weight type = “dry”</a:t>
            </a: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)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OR . . .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d1e07"/>
                </a:solidFill>
                <a:latin typeface="GE Inspira"/>
              </a:rPr>
              <a:t>are there any other ways??</a:t>
            </a: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)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THEN . . .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Different ways to model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07" name=""/>
          <p:cNvSpPr/>
          <p:nvPr/>
        </p:nvSpPr>
        <p:spPr>
          <a:xfrm>
            <a:off x="495360" y="105264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If </a:t>
            </a:r>
            <a:r>
              <a:rPr b="1" i="1" lang="en-US" sz="3600" spc="-1" strike="noStrike">
                <a:solidFill>
                  <a:srgbClr val="fa1a02"/>
                </a:solidFill>
                <a:latin typeface="GE Inspira"/>
              </a:rPr>
              <a:t>Dry </a:t>
            </a:r>
            <a:r>
              <a:rPr b="1" i="1" lang="en-US" sz="3600" spc="-1" strike="noStrike">
                <a:solidFill>
                  <a:srgbClr val="fd1e07"/>
                </a:solidFill>
                <a:latin typeface="GE Inspira"/>
              </a:rPr>
              <a:t>Weight</a:t>
            </a: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 </a:t>
            </a:r>
            <a:r>
              <a:rPr b="0" lang="en-US" sz="3600" spc="-1" strike="noStrike">
                <a:solidFill>
                  <a:srgbClr val="fd1e07"/>
                </a:solidFill>
                <a:latin typeface="GE Inspira"/>
              </a:rPr>
              <a:t>&gt; 70 kg</a:t>
            </a: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, then . . .</a:t>
            </a:r>
            <a:br>
              <a:rPr sz="3600"/>
            </a:b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89080" y="1736280"/>
            <a:ext cx="8370720" cy="46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IF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(</a:t>
            </a:r>
            <a:r>
              <a:rPr b="0" lang="en-US" sz="2800" spc="-1" strike="noStrike">
                <a:solidFill>
                  <a:srgbClr val="fd1e07"/>
                </a:solidFill>
                <a:latin typeface="GE Inspira"/>
              </a:rPr>
              <a:t>Dry Weight &gt; 70 kg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OR 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(</a:t>
            </a:r>
            <a:r>
              <a:rPr b="0" lang="en-US" sz="2800" spc="-1" strike="noStrike">
                <a:solidFill>
                  <a:srgbClr val="fd1e07"/>
                </a:solidFill>
                <a:latin typeface="GE Inspira"/>
              </a:rPr>
              <a:t>Weight &gt; 70 kg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</a:t>
            </a: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AND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</a:t>
            </a:r>
            <a:r>
              <a:rPr b="0" lang="en-US" sz="2800" spc="-1" strike="noStrike">
                <a:solidFill>
                  <a:srgbClr val="fd1e07"/>
                </a:solidFill>
                <a:latin typeface="GE Inspira"/>
              </a:rPr>
              <a:t>Weight type = “dry”</a:t>
            </a: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)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OR . . .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d1e07"/>
                </a:solidFill>
                <a:latin typeface="GE Inspira"/>
              </a:rPr>
              <a:t>are there any other ways??</a:t>
            </a: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)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THEN . . .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Different ways to model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10" name=""/>
          <p:cNvSpPr/>
          <p:nvPr/>
        </p:nvSpPr>
        <p:spPr>
          <a:xfrm>
            <a:off x="495360" y="105264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If </a:t>
            </a:r>
            <a:r>
              <a:rPr b="1" i="1" lang="en-US" sz="3600" spc="-1" strike="noStrike">
                <a:solidFill>
                  <a:srgbClr val="fa1a02"/>
                </a:solidFill>
                <a:latin typeface="GE Inspira"/>
              </a:rPr>
              <a:t>Dry </a:t>
            </a:r>
            <a:r>
              <a:rPr b="1" i="1" lang="en-US" sz="3600" spc="-1" strike="noStrike">
                <a:solidFill>
                  <a:srgbClr val="fd1e07"/>
                </a:solidFill>
                <a:latin typeface="GE Inspira"/>
              </a:rPr>
              <a:t>Weight</a:t>
            </a: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 </a:t>
            </a:r>
            <a:r>
              <a:rPr b="0" lang="en-US" sz="3600" spc="-1" strike="noStrike">
                <a:solidFill>
                  <a:srgbClr val="fd1e07"/>
                </a:solidFill>
                <a:latin typeface="GE Inspira"/>
              </a:rPr>
              <a:t>&gt; 70 kg</a:t>
            </a: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, then . . .</a:t>
            </a:r>
            <a:br>
              <a:rPr sz="3600"/>
            </a:b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11" name=""/>
          <p:cNvSpPr/>
          <p:nvPr/>
        </p:nvSpPr>
        <p:spPr>
          <a:xfrm>
            <a:off x="366840" y="4897440"/>
            <a:ext cx="845964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We want to store only one way!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88720" y="1974600"/>
            <a:ext cx="8218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Stored/accessed as: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-339840">
              <a:lnSpc>
                <a:spcPct val="90000"/>
              </a:lnSpc>
              <a:spcBef>
                <a:spcPts val="90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A single name/code and value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2" marL="744480" indent="-288720">
              <a:lnSpc>
                <a:spcPct val="90000"/>
              </a:lnSpc>
              <a:spcBef>
                <a:spcPts val="601"/>
              </a:spcBef>
              <a:buClr>
                <a:srgbClr val="004880"/>
              </a:buClr>
              <a:buFont typeface="GE Inspi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Right Arm Cuff Systolic Blood Pressure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120 mm Hg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 </a:t>
            </a: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The combination of multiple names/codes and values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2" marL="744480" indent="-288720">
              <a:lnSpc>
                <a:spcPct val="90000"/>
              </a:lnSpc>
              <a:spcBef>
                <a:spcPts val="601"/>
              </a:spcBef>
              <a:buClr>
                <a:srgbClr val="004880"/>
              </a:buClr>
              <a:buFont typeface="GE Inspi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Systolic Blood Pressure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120 mm Hg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3" marL="1146240" indent="-287280">
              <a:lnSpc>
                <a:spcPct val="90000"/>
              </a:lnSpc>
              <a:spcBef>
                <a:spcPts val="300"/>
              </a:spcBef>
              <a:buClr>
                <a:srgbClr val="004880"/>
              </a:buClr>
              <a:buFont typeface="GE Inspir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Body Location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“arm”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4" marL="1546200" indent="-285840">
              <a:lnSpc>
                <a:spcPct val="90000"/>
              </a:lnSpc>
              <a:buClr>
                <a:srgbClr val="004880"/>
              </a:buClr>
              <a:buFont typeface="GE Inspir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Body Location Laterality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“right”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3" marL="1146240" indent="-287280">
              <a:lnSpc>
                <a:spcPct val="90000"/>
              </a:lnSpc>
              <a:spcBef>
                <a:spcPts val="300"/>
              </a:spcBef>
              <a:buClr>
                <a:srgbClr val="004880"/>
              </a:buClr>
              <a:buFont typeface="GE Inspir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Device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“cuff”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Different ways to model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14" name=""/>
          <p:cNvSpPr/>
          <p:nvPr/>
        </p:nvSpPr>
        <p:spPr>
          <a:xfrm>
            <a:off x="285840" y="996840"/>
            <a:ext cx="845964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"/>
              </a:rPr>
              <a:t>Another example: “Systolic Blood Pressure Taken from the Right Arm with a Cuff”</a:t>
            </a:r>
            <a:br>
              <a:rPr sz="3200"/>
            </a:br>
            <a:endParaRPr b="0" lang="en-US" sz="32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88720" y="1974600"/>
            <a:ext cx="8218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Even if we store it this way: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2" marL="744480" indent="-288720">
              <a:lnSpc>
                <a:spcPct val="80000"/>
              </a:lnSpc>
              <a:spcBef>
                <a:spcPts val="601"/>
              </a:spcBef>
              <a:buClr>
                <a:srgbClr val="004880"/>
              </a:buClr>
              <a:buFont typeface="GE Inspi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Systolic Blood Pressure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120 mm Hg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3" marL="1146240" indent="-287280">
              <a:lnSpc>
                <a:spcPct val="80000"/>
              </a:lnSpc>
              <a:spcBef>
                <a:spcPts val="300"/>
              </a:spcBef>
              <a:buClr>
                <a:srgbClr val="004880"/>
              </a:buClr>
              <a:buFont typeface="GE Inspir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Body Location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“arm”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4" marL="1546200" indent="-285840">
              <a:lnSpc>
                <a:spcPct val="80000"/>
              </a:lnSpc>
              <a:buClr>
                <a:srgbClr val="004880"/>
              </a:buClr>
              <a:buFont typeface="GE Inspir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Body Location Laterality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“right”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3" marL="1146240" indent="-287280">
              <a:lnSpc>
                <a:spcPct val="80000"/>
              </a:lnSpc>
              <a:spcBef>
                <a:spcPts val="300"/>
              </a:spcBef>
              <a:buClr>
                <a:srgbClr val="004880"/>
              </a:buClr>
              <a:buFont typeface="GE Inspir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Device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“cuff”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A UI will want to present it this way: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2" marL="744480" indent="-288720">
              <a:lnSpc>
                <a:spcPct val="80000"/>
              </a:lnSpc>
              <a:spcBef>
                <a:spcPts val="601"/>
              </a:spcBef>
              <a:buClr>
                <a:srgbClr val="004880"/>
              </a:buClr>
              <a:buFont typeface="GE Inspi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Systolic Blood Pressure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120 mm Hg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3" marL="1146240" indent="-287280">
              <a:lnSpc>
                <a:spcPct val="80000"/>
              </a:lnSpc>
              <a:spcBef>
                <a:spcPts val="300"/>
              </a:spcBef>
              <a:buClr>
                <a:srgbClr val="004880"/>
              </a:buClr>
              <a:buFont typeface="GE Inspir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Body Location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“right arm”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3" marL="1146240" indent="-287280">
              <a:lnSpc>
                <a:spcPct val="80000"/>
              </a:lnSpc>
              <a:spcBef>
                <a:spcPts val="300"/>
              </a:spcBef>
              <a:buClr>
                <a:srgbClr val="004880"/>
              </a:buClr>
              <a:buFont typeface="GE Inspir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Device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“cuff”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indent="0" algn="ct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e4191"/>
                </a:solidFill>
                <a:latin typeface="GE Inspira"/>
              </a:rPr>
              <a:t>We need a conversion mechanism – just like we need for converting to Clinical Trials models!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Different ways to model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17" name=""/>
          <p:cNvSpPr/>
          <p:nvPr/>
        </p:nvSpPr>
        <p:spPr>
          <a:xfrm>
            <a:off x="285840" y="996840"/>
            <a:ext cx="845964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"/>
              </a:rPr>
              <a:t>Another example: “Systolic Blood Pressure Taken from the Right Arm with a Cuff”</a:t>
            </a:r>
            <a:br>
              <a:rPr sz="3200"/>
            </a:br>
            <a:endParaRPr b="0" lang="en-US" sz="32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988920" y="1036800"/>
            <a:ext cx="3583080" cy="52200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SystolicBloodPressureMea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19" name=""/>
          <p:cNvSpPr/>
          <p:nvPr/>
        </p:nvSpPr>
        <p:spPr>
          <a:xfrm>
            <a:off x="1871640" y="171936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20" name=""/>
          <p:cNvSpPr/>
          <p:nvPr/>
        </p:nvSpPr>
        <p:spPr>
          <a:xfrm>
            <a:off x="3322800" y="1766880"/>
            <a:ext cx="27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olicBloodPressure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21" name=""/>
          <p:cNvSpPr/>
          <p:nvPr/>
        </p:nvSpPr>
        <p:spPr>
          <a:xfrm>
            <a:off x="1871640" y="251604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22" name=""/>
          <p:cNvSpPr/>
          <p:nvPr/>
        </p:nvSpPr>
        <p:spPr>
          <a:xfrm>
            <a:off x="3314520" y="257652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 mm Hg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23" name=""/>
          <p:cNvSpPr/>
          <p:nvPr/>
        </p:nvSpPr>
        <p:spPr>
          <a:xfrm>
            <a:off x="1716120" y="2422440"/>
            <a:ext cx="5629320" cy="68436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24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Different ways to model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25" name=""/>
          <p:cNvSpPr/>
          <p:nvPr/>
        </p:nvSpPr>
        <p:spPr>
          <a:xfrm>
            <a:off x="992160" y="3621240"/>
            <a:ext cx="3773520" cy="52200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SystolicBloodPressureAssert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26" name=""/>
          <p:cNvSpPr/>
          <p:nvPr/>
        </p:nvSpPr>
        <p:spPr>
          <a:xfrm>
            <a:off x="1874880" y="430380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27" name=""/>
          <p:cNvSpPr/>
          <p:nvPr/>
        </p:nvSpPr>
        <p:spPr>
          <a:xfrm>
            <a:off x="3327480" y="435132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rtion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28" name=""/>
          <p:cNvSpPr/>
          <p:nvPr/>
        </p:nvSpPr>
        <p:spPr>
          <a:xfrm>
            <a:off x="1874880" y="510048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29" name=""/>
          <p:cNvSpPr/>
          <p:nvPr/>
        </p:nvSpPr>
        <p:spPr>
          <a:xfrm>
            <a:off x="3312000" y="5160960"/>
            <a:ext cx="450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olicBloodPressure = 120 mm Hg”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30" name=""/>
          <p:cNvSpPr/>
          <p:nvPr/>
        </p:nvSpPr>
        <p:spPr>
          <a:xfrm>
            <a:off x="1719360" y="5006880"/>
            <a:ext cx="6127560" cy="68436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9600" y="171000"/>
            <a:ext cx="6257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Intermountain Healthcare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1400" y="1083960"/>
            <a:ext cx="84610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Health Delivery Network, not-for-profit 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marL="23184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Serving Utah and Southern Idaho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marL="23184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21 Hospitals/ 2105 beds/150 Clinics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marL="23184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Medical Group of 550 employed physicians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marL="23184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Insurance plan of 500,000 covered lives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marL="23184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$85M/year charitable care exclusive of bad debt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marL="23184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27,000 employees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marL="23184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Partner in the Utah Health Information Network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988920" y="1036800"/>
            <a:ext cx="3583080" cy="52200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SystolicBloodPressureMea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32" name=""/>
          <p:cNvSpPr/>
          <p:nvPr/>
        </p:nvSpPr>
        <p:spPr>
          <a:xfrm>
            <a:off x="1871640" y="171936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33" name=""/>
          <p:cNvSpPr/>
          <p:nvPr/>
        </p:nvSpPr>
        <p:spPr>
          <a:xfrm>
            <a:off x="3322800" y="1766880"/>
            <a:ext cx="27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olicBloodPressure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34" name=""/>
          <p:cNvSpPr/>
          <p:nvPr/>
        </p:nvSpPr>
        <p:spPr>
          <a:xfrm>
            <a:off x="1871640" y="251604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35" name=""/>
          <p:cNvSpPr/>
          <p:nvPr/>
        </p:nvSpPr>
        <p:spPr>
          <a:xfrm>
            <a:off x="3314520" y="257652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 mm Hg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36" name=""/>
          <p:cNvSpPr/>
          <p:nvPr/>
        </p:nvSpPr>
        <p:spPr>
          <a:xfrm>
            <a:off x="1716120" y="2422440"/>
            <a:ext cx="5629320" cy="68436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37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Different ways to model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38" name=""/>
          <p:cNvSpPr/>
          <p:nvPr/>
        </p:nvSpPr>
        <p:spPr>
          <a:xfrm>
            <a:off x="992160" y="3621240"/>
            <a:ext cx="3773520" cy="52200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SystolicBloodPressureAssert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39" name=""/>
          <p:cNvSpPr/>
          <p:nvPr/>
        </p:nvSpPr>
        <p:spPr>
          <a:xfrm>
            <a:off x="1874880" y="430380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40" name=""/>
          <p:cNvSpPr/>
          <p:nvPr/>
        </p:nvSpPr>
        <p:spPr>
          <a:xfrm>
            <a:off x="3327480" y="435132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rtion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41" name=""/>
          <p:cNvSpPr/>
          <p:nvPr/>
        </p:nvSpPr>
        <p:spPr>
          <a:xfrm>
            <a:off x="1874880" y="510048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42" name=""/>
          <p:cNvSpPr/>
          <p:nvPr/>
        </p:nvSpPr>
        <p:spPr>
          <a:xfrm>
            <a:off x="3312000" y="5160960"/>
            <a:ext cx="450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olicBloodPressure = 120 mm Hg”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43" name=""/>
          <p:cNvSpPr/>
          <p:nvPr/>
        </p:nvSpPr>
        <p:spPr>
          <a:xfrm>
            <a:off x="1719360" y="5006880"/>
            <a:ext cx="6127560" cy="68436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0160" y="3359160"/>
            <a:ext cx="6960960" cy="2622600"/>
            <a:chOff x="830160" y="3359160"/>
            <a:chExt cx="6960960" cy="2622600"/>
          </a:xfrm>
        </p:grpSpPr>
        <p:sp>
          <p:nvSpPr>
            <p:cNvPr id="245" name=""/>
            <p:cNvSpPr/>
            <p:nvPr/>
          </p:nvSpPr>
          <p:spPr>
            <a:xfrm>
              <a:off x="830160" y="3359160"/>
              <a:ext cx="6932880" cy="2612880"/>
            </a:xfrm>
            <a:prstGeom prst="line">
              <a:avLst/>
            </a:prstGeom>
            <a:ln w="38160">
              <a:solidFill>
                <a:srgbClr val="e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e4191"/>
                </a:solidFill>
                <a:latin typeface="GE Inspira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858600" y="3368520"/>
              <a:ext cx="6932520" cy="2613240"/>
            </a:xfrm>
            <a:prstGeom prst="line">
              <a:avLst/>
            </a:prstGeom>
            <a:ln w="38160">
              <a:solidFill>
                <a:srgbClr val="e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e4191"/>
                </a:solidFill>
                <a:latin typeface="GE Inspir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988920" y="1036800"/>
            <a:ext cx="2976480" cy="52200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AsthmaAssert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48" name=""/>
          <p:cNvSpPr/>
          <p:nvPr/>
        </p:nvSpPr>
        <p:spPr>
          <a:xfrm>
            <a:off x="1871640" y="171936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49" name=""/>
          <p:cNvSpPr/>
          <p:nvPr/>
        </p:nvSpPr>
        <p:spPr>
          <a:xfrm>
            <a:off x="3324240" y="176688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rtion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50" name=""/>
          <p:cNvSpPr/>
          <p:nvPr/>
        </p:nvSpPr>
        <p:spPr>
          <a:xfrm>
            <a:off x="1871640" y="251604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51" name=""/>
          <p:cNvSpPr/>
          <p:nvPr/>
        </p:nvSpPr>
        <p:spPr>
          <a:xfrm>
            <a:off x="3315240" y="257652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thm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52" name=""/>
          <p:cNvSpPr/>
          <p:nvPr/>
        </p:nvSpPr>
        <p:spPr>
          <a:xfrm>
            <a:off x="1716120" y="2422440"/>
            <a:ext cx="5629320" cy="68436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53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Different ways to model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988920" y="1036800"/>
            <a:ext cx="2976480" cy="52200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HairColorMea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55" name=""/>
          <p:cNvSpPr/>
          <p:nvPr/>
        </p:nvSpPr>
        <p:spPr>
          <a:xfrm>
            <a:off x="1871640" y="171936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56" name=""/>
          <p:cNvSpPr/>
          <p:nvPr/>
        </p:nvSpPr>
        <p:spPr>
          <a:xfrm>
            <a:off x="3324600" y="176688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irColor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57" name=""/>
          <p:cNvSpPr/>
          <p:nvPr/>
        </p:nvSpPr>
        <p:spPr>
          <a:xfrm>
            <a:off x="1871640" y="251604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58" name=""/>
          <p:cNvSpPr/>
          <p:nvPr/>
        </p:nvSpPr>
        <p:spPr>
          <a:xfrm>
            <a:off x="3316320" y="257652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nde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59" name=""/>
          <p:cNvSpPr/>
          <p:nvPr/>
        </p:nvSpPr>
        <p:spPr>
          <a:xfrm>
            <a:off x="1716120" y="2422440"/>
            <a:ext cx="5629320" cy="68436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60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Different ways to model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61" name=""/>
          <p:cNvSpPr/>
          <p:nvPr/>
        </p:nvSpPr>
        <p:spPr>
          <a:xfrm>
            <a:off x="992160" y="3621240"/>
            <a:ext cx="2976480" cy="52200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HairColorAssert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62" name=""/>
          <p:cNvSpPr/>
          <p:nvPr/>
        </p:nvSpPr>
        <p:spPr>
          <a:xfrm>
            <a:off x="1874880" y="430380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63" name=""/>
          <p:cNvSpPr/>
          <p:nvPr/>
        </p:nvSpPr>
        <p:spPr>
          <a:xfrm>
            <a:off x="3327480" y="435132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rtion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64" name=""/>
          <p:cNvSpPr/>
          <p:nvPr/>
        </p:nvSpPr>
        <p:spPr>
          <a:xfrm>
            <a:off x="1874880" y="510048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65" name=""/>
          <p:cNvSpPr/>
          <p:nvPr/>
        </p:nvSpPr>
        <p:spPr>
          <a:xfrm>
            <a:off x="3317760" y="5160960"/>
            <a:ext cx="21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nde Hair Color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66" name=""/>
          <p:cNvSpPr/>
          <p:nvPr/>
        </p:nvSpPr>
        <p:spPr>
          <a:xfrm>
            <a:off x="1719360" y="5006880"/>
            <a:ext cx="5629320" cy="68436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Common Processing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42720" y="1241280"/>
            <a:ext cx="845964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ct val="80000"/>
              </a:lnSpc>
              <a:spcBef>
                <a:spcPts val="1749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Heart Rates and Blood Pressures both have body locations.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1" marL="741240" indent="-339480">
              <a:lnSpc>
                <a:spcPct val="80000"/>
              </a:lnSpc>
              <a:spcBef>
                <a:spcPts val="90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They aren’t the same body locations, but an application may want to process them similarly, e.g., display them in the same column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1" marL="741240" indent="-339480">
              <a:lnSpc>
                <a:spcPct val="80000"/>
              </a:lnSpc>
              <a:spcBef>
                <a:spcPts val="90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Do we create a parent “things with body locations”?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marL="287280" indent="-287280">
              <a:lnSpc>
                <a:spcPct val="80000"/>
              </a:lnSpc>
              <a:spcBef>
                <a:spcPts val="1749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Vision changes and Weight changes don’t have much in common.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1" marL="741240" indent="-339480">
              <a:lnSpc>
                <a:spcPct val="80000"/>
              </a:lnSpc>
              <a:spcBef>
                <a:spcPts val="90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But an application may want to display/capture “things that have changed” since the last visit.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1" marL="741240" indent="-339480">
              <a:lnSpc>
                <a:spcPct val="80000"/>
              </a:lnSpc>
              <a:spcBef>
                <a:spcPts val="90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Do we create a parent “things that can change”?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Things we seek: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42720" y="1117080"/>
            <a:ext cx="84596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1280" indent="-339840">
              <a:lnSpc>
                <a:spcPct val="90000"/>
              </a:lnSpc>
              <a:spcBef>
                <a:spcPts val="1049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Explicit models for data elements – </a:t>
            </a:r>
            <a:r>
              <a:rPr b="0" i="1" lang="en-US" sz="2800" spc="-1" strike="noStrike">
                <a:solidFill>
                  <a:srgbClr val="1e4191"/>
                </a:solidFill>
                <a:latin typeface="GE Inspira"/>
              </a:rPr>
              <a:t>including standardized coded terminology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-339840">
              <a:lnSpc>
                <a:spcPct val="90000"/>
              </a:lnSpc>
              <a:spcBef>
                <a:spcPts val="1049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A single way (or at least a very few well-defined ways) to store/access a data element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-339840">
              <a:lnSpc>
                <a:spcPct val="90000"/>
              </a:lnSpc>
              <a:spcBef>
                <a:spcPts val="1049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A standard or “interlingua” for models that make them shareable between institutions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-339840">
              <a:lnSpc>
                <a:spcPct val="90000"/>
              </a:lnSpc>
              <a:spcBef>
                <a:spcPts val="1049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Extensibility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-339840">
              <a:lnSpc>
                <a:spcPct val="90000"/>
              </a:lnSpc>
              <a:spcBef>
                <a:spcPts val="1049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Applications that address data generically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Status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42720" y="1241280"/>
            <a:ext cx="845964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ct val="90000"/>
              </a:lnSpc>
              <a:spcBef>
                <a:spcPts val="1749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We’re in the process of creating models as part of our partnership with GE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1" marL="741240" indent="-339480">
              <a:lnSpc>
                <a:spcPct val="90000"/>
              </a:lnSpc>
              <a:spcBef>
                <a:spcPts val="90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We have very few of the items on the functional requirements xls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1" marL="741240" indent="-339480">
              <a:lnSpc>
                <a:spcPct val="90000"/>
              </a:lnSpc>
              <a:spcBef>
                <a:spcPts val="90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We do not have any data stored against our models yet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1" marL="741240" indent="-339480">
              <a:lnSpc>
                <a:spcPct val="90000"/>
              </a:lnSpc>
              <a:spcBef>
                <a:spcPts val="90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We can discuss creating the needed models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1e4191"/>
                </a:solidFill>
                <a:latin typeface="GE Inspira"/>
              </a:rPr>
              <a:t>Questions?</a:t>
            </a:r>
            <a:endParaRPr b="0" lang="en-US" sz="68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The essentials of the proposition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965160"/>
            <a:ext cx="845964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The need for the clinical models is dictated by </a:t>
            </a:r>
            <a:r>
              <a:rPr b="0" i="1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what we want to accomplish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as providers of health care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The </a:t>
            </a:r>
            <a:r>
              <a:rPr b="0" i="1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best clinical care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requires the use of computerized clinical decision support and automated data analysis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Clinical decision support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and </a:t>
            </a:r>
            <a:r>
              <a:rPr b="0" i="1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automated data analysis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can only function against </a:t>
            </a:r>
            <a:r>
              <a:rPr b="0" i="1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standard structured coded data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Detailed clinical models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provide the </a:t>
            </a:r>
            <a:r>
              <a:rPr b="0" i="1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standard structure and terminology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needed for clinical decision support and automated data analysis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One important clinical decision support and automated data analysis </a:t>
            </a:r>
            <a:r>
              <a:rPr b="0" i="1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use case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is </a:t>
            </a:r>
            <a:r>
              <a:rPr b="0" i="1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clinical trials recruitment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The Clinical Element Model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33000" y="109836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"/>
              </a:rPr>
              <a:t>Intermountain Healthcare’s design for detailed clinical models</a:t>
            </a:r>
            <a:endParaRPr b="0" lang="en-US" sz="32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"/>
              </a:rPr>
              <a:t>Evolution and refinement of The Clinical Event Model which Intermountain has been using for the past 12 years.</a:t>
            </a:r>
            <a:endParaRPr b="0" lang="en-US" sz="32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-339840">
              <a:lnSpc>
                <a:spcPct val="90000"/>
              </a:lnSpc>
              <a:spcBef>
                <a:spcPts val="1049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~200 million instances of clinical data stored in our repository.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What do we model using Clinical Element Models (CEMs)?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25240" y="1609560"/>
            <a:ext cx="845964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All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data in the patient’s EMR, including: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1" marL="403200" indent="-28872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Allergie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1" marL="403200" indent="-28872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Problem list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1" marL="403200" indent="-28872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Laboratory result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1" marL="403200" indent="-28872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Medication and diagnostic order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1" marL="403200" indent="-28872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Medication administration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1" marL="403200" indent="-28872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Physical exam and clinical measurement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1" marL="403200" indent="-28872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Signs, symptoms, diagnose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1" marL="403200" indent="-28872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Clinical document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1" marL="403200" indent="-28872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Procedure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1" marL="403200" indent="-28872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Family history, medical history and review of symptom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How will Clinical Element models be used?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34800" y="1285560"/>
            <a:ext cx="846000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1280" indent="-339840">
              <a:lnSpc>
                <a:spcPct val="90000"/>
              </a:lnSpc>
              <a:spcBef>
                <a:spcPts val="90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Interfaces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-339840">
              <a:lnSpc>
                <a:spcPct val="90000"/>
              </a:lnSpc>
              <a:spcBef>
                <a:spcPts val="90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Core services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-339840">
              <a:lnSpc>
                <a:spcPct val="90000"/>
              </a:lnSpc>
              <a:spcBef>
                <a:spcPts val="90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Decision logic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-339840">
              <a:lnSpc>
                <a:spcPct val="90000"/>
              </a:lnSpc>
              <a:spcBef>
                <a:spcPts val="90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Data entry screens, flow sheets, reports, ad hoc queries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Does </a:t>
            </a:r>
            <a:r>
              <a:rPr b="1" i="1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NOT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dictate physical storage strategy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5120" y="1639800"/>
            <a:ext cx="8676000" cy="27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23328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&lt;cetype name="SystolicBloodPressureMeas"&gt;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>
              <a:spcBef>
                <a:spcPts val="224"/>
              </a:spcBef>
              <a:tabLst>
                <a:tab algn="l" pos="0"/>
                <a:tab algn="l" pos="23328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&lt;key code="SystolicBloodPressureMeas_KEY_ECID"/&gt;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>
              <a:spcBef>
                <a:spcPts val="224"/>
              </a:spcBef>
              <a:tabLst>
                <a:tab algn="l" pos="0"/>
                <a:tab algn="l" pos="23328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ea0000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&lt;qual name="bodyPosition" card="0-1"/&gt;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>
              <a:spcBef>
                <a:spcPts val="224"/>
              </a:spcBef>
              <a:tabLst>
                <a:tab algn="l" pos="0"/>
                <a:tab algn="l" pos="23328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ea0000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&lt;constraint path="qual.bodyPosition.data.cwe.domain" 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value="BloodPressureBodyPosition_DOMAIN_ECID"/&gt;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>
              <a:spcBef>
                <a:spcPts val="224"/>
              </a:spcBef>
              <a:tabLst>
                <a:tab algn="l" pos="0"/>
                <a:tab algn="l" pos="23328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&lt;constraint path="data.pq.unit.domain" 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value="PressureUnitOfMeasure_DOMAIN_ECID"/&gt;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>
              <a:spcBef>
                <a:spcPts val="224"/>
              </a:spcBef>
              <a:tabLst>
                <a:tab algn="l" pos="0"/>
                <a:tab algn="l" pos="23328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&lt;constraint path="data.pq.unit.preferred" value="mmHg_ECID"/&gt;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>
              <a:spcBef>
                <a:spcPts val="224"/>
              </a:spcBef>
              <a:tabLst>
                <a:tab algn="l" pos="0"/>
                <a:tab algn="l" pos="23328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&lt;/cetype&gt;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02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The Systolic Blood Pressure Example in CEML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The Clinical Element Model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51160" y="1726920"/>
            <a:ext cx="350028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Type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- The name of a particular model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Key 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- Real world concept. Links model to an external coded terminology. 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Value Choice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- Possible ways to convey the model’s value.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177920"/>
            <a:ext cx="4883040" cy="4309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23:49:42Z</dcterms:created>
  <dc:creator/>
  <dc:description>General Electric Company 2004</dc:description>
  <cp:keywords>September 22 2004 – Version 1.1</cp:keywords>
  <dc:language>en-US</dc:language>
  <cp:lastModifiedBy>Tom Oniki</cp:lastModifiedBy>
  <cp:lastPrinted>2003-08-29T14:38:12Z</cp:lastPrinted>
  <dcterms:modified xsi:type="dcterms:W3CDTF">2007-11-07T05:08:54Z</dcterms:modified>
  <cp:revision>2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alette">
    <vt:lpwstr>GE Template</vt:lpwstr>
  </property>
</Properties>
</file>